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A69-7496-4E9E-9480-19C7AEBA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316-88BA-4D2B-883E-95D4102C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697-BFB0-403C-BAC3-DC45FB90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56C-72AC-42BA-AF1D-C4302816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46F-71E2-47BB-9DC1-77BC220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854-DD5C-4B82-A219-0E511E7E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5EB-1580-4591-8951-2A4AE48C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D1D-019F-4825-9A83-3E9A484A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AA6-D7BF-44B7-9806-03D9C01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FF9-FF0D-45B3-AA9F-6875D132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024-E2F6-4DA1-AA2B-D3D942D6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7E1-4C4A-4CBA-A707-BCA6E21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6832-5F21-481B-8C24-CDD68B0ACD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770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Lesson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 good turn deserves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5545_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7560" y="345960"/>
            <a:ext cx="5752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Where were you hav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Who came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Did he once work in the lawyer’s off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How long ago was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Where is he working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Is he paid a good sal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What does he alway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Do you think he needs to borrow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Does he ever pay it 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What did Tony do when he saw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Have you ever lent him any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Did you have dinner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What did you ask him dur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What did he give you immedia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Were you surpri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Did he pay for the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1441_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760" y="95400"/>
            <a:ext cx="892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dinner---restaurant---Tony Ste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worked---lawyer’s office---now---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good salary---always borrows---his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ver---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saw me---came---sat---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.never borrowed---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While--- eating---asked---lend me twenty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.surprised---gave me---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.”I---never---money---you,”Tony---,”so now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y---din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444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good turn deserves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a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awyer’s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a good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row…fr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t at the sam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my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660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善有善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8412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餐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7340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律师事务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24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拿高工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83120" y="28954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…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692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偿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38098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03920" y="434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我惊奇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付钱买，付…的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220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o use thes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serve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应得 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好工作就该拿好报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些人值得我们帮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她应该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5080" y="314316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work deserves good p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4280" y="428616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people deserves our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000" y="5429160"/>
            <a:ext cx="37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deserved to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26000" y="324000"/>
            <a:ext cx="256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偿还  付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把那五英磅还给了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当他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owe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了钱总会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2000" y="123840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paid me th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2800" y="230508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owes money,he always p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7600" y="2914560"/>
            <a:ext cx="29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付钱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买那本字典花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付给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把书买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买自行车花了多少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3120" y="382896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paid 40 yuan for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48196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paid me 5 yuan for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160" y="5810400"/>
            <a:ext cx="65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did you pay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8520" y="304920"/>
            <a:ext cx="480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mmary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 was having dinner at a restaurant.I saw Tony Steele after a while.He always borrows money from his friends.Tony sat at my table.I asked him to lend me twenty pounds.He gave me the money at once.He wanted me to pay for his dinn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ove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0:10:41Z</dcterms:created>
  <dc:creator/>
  <dc:description/>
  <dc:language>en-US</dc:language>
  <cp:lastModifiedBy>史流</cp:lastModifiedBy>
  <dcterms:modified xsi:type="dcterms:W3CDTF">2002-07-30T03:12:07Z</dcterms:modified>
  <cp:revision>10</cp:revision>
  <dc:subject/>
  <dc:title>PowerPoint 演示文稿</dc:title>
</cp:coreProperties>
</file>